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24A8-2DDC-4AB0-BA29-079825B55E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manager defines a hierarchical system and session-wide namespace for all objects exported by the operating system. This is explained in detail on slide 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4FF-B5A2-4342-90BB-5B78298F1D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77F3-50A5-41D8-9D5B-5045375C4E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50A2-B088-4B45-A404-0DF6210EAA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EA95-4AA7-4E5A-8F3C-1EA2F38F841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90680" y="923760"/>
            <a:ext cx="4078080" cy="30592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A079-97C5-4429-B934-FAE2C9DF46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FF46-E30E-42B3-A5DB-86B881DA24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ldImg"/>
          </p:nvPr>
        </p:nvSpPr>
        <p:spPr>
          <a:xfrm>
            <a:off x="1300320" y="808200"/>
            <a:ext cx="4259160" cy="31939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Windows provides several base mechanisms that kernel-mode components such as  the executive, the kernel, and device drivers use.  This  Section  gives an architectural overview, discusses the program execution environment and explains  basic system servic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itecture Over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Executio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Mode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Thr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Processes /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E355-E046-4F3A-A23B-5BDF71B749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9007-CC55-4291-84C0-E4B2F59A9DA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55C28-D749-4DA8-936F-CB87D7987C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99CF-D827-47ED-AE05-17BB1D735C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55600" y="69228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7000" y="4343400"/>
            <a:ext cx="5004000" cy="410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586E-0CD1-4709-8017-C8A8F2917B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809640"/>
            <a:ext cx="4253040" cy="3189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A5C7-9E65-46A6-A7FF-E413D578D9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8520" y="801720"/>
            <a:ext cx="4260960" cy="3195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5840" y="4300560"/>
            <a:ext cx="5026320" cy="42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7FE6-6BB4-448D-8ED0-ADF42634B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7F10-86C0-4623-B942-89FC5A5DA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1862-5268-4FE8-A627-E25BA86347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C47B-B655-47F4-B8D2-4B20844DF5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47C3F-106C-45B1-BC67-076695AC9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1F99D-A43F-4C7D-AAE4-F065CDE92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3CC8-5B28-4E0C-B2D0-6D7213A92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88FE-6A6E-44D3-A203-55E25B03D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CA47-1B37-428F-9D8F-E3355EE28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9CAE3-CEDE-449B-BAA9-5A2E9D3A2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32281-0E31-45A9-95FD-246B0ACA3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3AC80-92AC-4A87-9BA2-F5624459EB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534160" y="662904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B29D-F020-420F-8E2A-6B8F8130CE15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4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2: </a:t>
            </a:r>
            <a:br>
              <a:rPr sz="36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perating System Principl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2320" y="4006800"/>
            <a:ext cx="741816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2.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ore System Mechanis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85800" y="1371600"/>
          <a:ext cx="8077320" cy="542124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direc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ainer object for other objects: implement hierarchical namespace to store other object typ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mbolic lin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referring to an object name indirect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rtual address space and control information necessary for execution of thread ob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cutable entity within a 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 of shared memory (file mapping object in Windows API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ance of an opened file or I/O de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r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pass messages between proces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k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 profile (security ID, user rights) of a process or thre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B636-DA76-44C7-97D9-E288059242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ecutive Object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85800" y="990720"/>
          <a:ext cx="8077320" cy="5862600"/>
        </p:xfrm>
        <a:graphic>
          <a:graphicData uri="http://schemas.openxmlformats.org/drawingml/2006/table">
            <a:tbl>
              <a:tblPr/>
              <a:tblGrid>
                <a:gridCol w="1981080"/>
                <a:gridCol w="6096240"/>
              </a:tblGrid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resents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 with  persistent state (signaled or not) usable for synchronization or notific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apho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unter and resource gate for critical s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ta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nchronization construct to serialize resource ac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to notify a thread when a fixed period of time elaps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 for threads to enqueue/dequeue notifications of I/O completions (Windows I/O completion por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erence to registry data – visible in object manager namesp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f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chanism for measuring execution time for a process within an address ran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F8ED7-98B6-42C4-9F0F-E2D3A0C872C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88280" y="227016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996920" y="434340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7432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hea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472428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Object bod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22860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5880" y="27432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3200400"/>
            <a:ext cx="1447920" cy="685800"/>
          </a:xfrm>
          <a:prstGeom prst="octagon">
            <a:avLst>
              <a:gd name="adj" fmla="val 2928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rocess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77760" y="4114800"/>
            <a:ext cx="2212200" cy="204084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Type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Access typ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ynchroniz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Pageable? (Y/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Method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, close, delete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parse, security,</a:t>
            </a:r>
            <a:br>
              <a:rPr sz="1600"/>
            </a:b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  query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8280" y="5562720"/>
            <a:ext cx="49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 contains static, object-type specific data: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shared among all instances of an object type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- link all instances together (enum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5680" y="379404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Typ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16880" y="242244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25520" y="4495680"/>
            <a:ext cx="1905120" cy="76212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29640" y="2575080"/>
            <a:ext cx="1895400" cy="20408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direc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Security descrip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Quota char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pen handles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 typ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Reference cou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648320"/>
            <a:ext cx="1905120" cy="76176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Object-specif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191120" y="2895480"/>
            <a:ext cx="129528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43400" y="4419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43400" y="4572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09" idx="0"/>
            <a:endCxn id="220" idx="0"/>
          </p:cNvCxnSpPr>
          <p:nvPr/>
        </p:nvCxnSpPr>
        <p:spPr>
          <a:xfrm flipH="1" rot="16200000">
            <a:off x="2974680" y="2230920"/>
            <a:ext cx="153000" cy="229320"/>
          </a:xfrm>
          <a:prstGeom prst="curvedConnector5">
            <a:avLst>
              <a:gd name="adj1" fmla="val -150000"/>
              <a:gd name="adj2" fmla="val 50000"/>
              <a:gd name="adj3" fmla="val -1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0" idx="0"/>
            <a:endCxn id="222" idx="0"/>
          </p:cNvCxnSpPr>
          <p:nvPr/>
        </p:nvCxnSpPr>
        <p:spPr>
          <a:xfrm flipH="1" rot="16200000">
            <a:off x="3195360" y="2392200"/>
            <a:ext cx="153360" cy="213480"/>
          </a:xfrm>
          <a:prstGeom prst="curvedConnector5">
            <a:avLst>
              <a:gd name="adj1" fmla="val -149882"/>
              <a:gd name="adj2" fmla="val 50000"/>
              <a:gd name="adj3" fmla="val -1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19" idx="2"/>
            <a:endCxn id="209" idx="0"/>
          </p:cNvCxnSpPr>
          <p:nvPr/>
        </p:nvCxnSpPr>
        <p:spPr>
          <a:xfrm flipV="1" rot="16200000">
            <a:off x="3543840" y="1662120"/>
            <a:ext cx="1861200" cy="3075840"/>
          </a:xfrm>
          <a:prstGeom prst="curvedConnector5">
            <a:avLst>
              <a:gd name="adj1" fmla="val -12284"/>
              <a:gd name="adj2" fmla="val 22240"/>
              <a:gd name="adj3" fmla="val -1228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083A8-8E6A-4ABD-9F43-B2E772389D4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ethod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51051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opens handle to object \Device\Floppy0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manager traverses name tree until it reaches Floppy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alls parse method for object Floppy0 with arg \docs\resume.do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533520" y="1189080"/>
          <a:ext cx="8153280" cy="3078000"/>
        </p:xfrm>
        <a:graphic>
          <a:graphicData uri="http://schemas.openxmlformats.org/drawingml/2006/table">
            <a:tbl>
              <a:tblPr/>
              <a:tblGrid>
                <a:gridCol w="1523880"/>
                <a:gridCol w="6629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method is call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open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n object handle is clo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le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fore the object manager deletes an obj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ery na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thread requests the name of an object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the object manager is searching for an object name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cur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 a process reads/changes protection of an objects, such as a file, that exists in a secondary object doma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1960" y="4343400"/>
            <a:ext cx="1028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99"/>
                </a:solidFill>
                <a:latin typeface="Arial"/>
              </a:rPr>
              <a:t>Example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2E962-6ED7-4D78-BC1B-8FBFDE9B49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55640" y="2050920"/>
            <a:ext cx="5904000" cy="48070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7621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ystem and session-wide internal namespace for all objects exported by the operating sys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550"/>
              </a:spcBef>
              <a:spcAft>
                <a:spcPts val="550"/>
              </a:spcAft>
              <a:buSzPct val="1439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View with Winobj from www.sysinternals.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26B32-BFC9-4B93-B05F-7E625DEAE84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esting Object Directori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6553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Object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that define types of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BaseNamed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se will appear when Windows programs use CreateEven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tant (Windows mute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ue (Windows I/O completion 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tion (Windows file mapping obje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aph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9"/>
              </a:buBlip>
              <a:tabLst>
                <a:tab algn="l" pos="625320"/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\GLOBAL?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251000"/>
                <a:tab algn="l" pos="1876320"/>
                <a:tab algn="l" pos="2502000"/>
                <a:tab algn="l" pos="3127320"/>
                <a:tab algn="l" pos="3753000"/>
                <a:tab algn="l" pos="4378320"/>
                <a:tab algn="l" pos="5003640"/>
                <a:tab algn="l" pos="5629320"/>
                <a:tab algn="l" pos="6254640"/>
                <a:tab algn="l" pos="6880320"/>
                <a:tab algn="l" pos="7505640"/>
                <a:tab algn="l" pos="8131320"/>
                <a:tab algn="l" pos="8756640"/>
                <a:tab algn="l" pos="9381960"/>
                <a:tab algn="l" pos="10007640"/>
                <a:tab algn="l" pos="106329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 device name mappings for console s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EA96-06B8-493C-BA22-3A1C9C1FB8B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 Namespac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mespa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erarchical directory structure (based on file system mode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-wide (not per-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th Terminal Services, Windows objects are per-session by defaul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verride this with “global\” prefix on object na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atile (not preserved across boot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s of Server 2003, requires SeCreateGlobalPrivile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mespace can be extended by secondary object managers (e.g. file syst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ook mechanism to call external parse routine (metho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case sensitive or case bli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s symbolic links (used to implement drive letter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okup done on object creation or access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on access by hand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all objects managed by the object manager are nam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.g. file objects are not nam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-named objects are not visible in WinOb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981080"/>
            <a:ext cx="8305920" cy="533520"/>
          </a:xfrm>
          <a:prstGeom prst="roundRect">
            <a:avLst>
              <a:gd name="adj" fmla="val 29167"/>
            </a:avLst>
          </a:prstGeom>
          <a:noFill/>
          <a:ln w="28440">
            <a:solidFill>
              <a:srgbClr val="fe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CF35-ACF0-4B1A-B11E-7F09377F61F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n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s initial size and upper limit (can be grown dynamically, up to the ma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256 MB on x86 (NT4: 128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4-bit: 128 GB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counter displays current total size (allocated + fre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kernel variable MmMaximumNon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d po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2-bit upper limit:  650MB (Windows Server 2003), 470MB (Windows 2000), 192MB (Windows NT 4.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4-bit: 128 G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 size stored in MmSizeOfPagedPoolIn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l size performance counters display current size, not 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display maximums, use “!vm” kernel debugger comm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14040" y="43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B3323-FC81-4EC6-9BEB-9002B894CA4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voking Kernel-Mode Routin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e is run in kernel mode for one of three rea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from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ia the system service dispatch mechan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-mode code runs in the context of the requesting thre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s from external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rupts (like all traps) are handled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-supplied interrupt dispatcher invokes the interrupt service routi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runs in the context of the interrupted thread (so-called “arbitrary thread context”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R often requests the execution of a “DPC routine”, which also runs in kernel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dicated kernel-mode threa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me threads in the system stay in kernel mode at all times (mostly in the “System” proc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heduled, preempted, etc., like any other threa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715E-0C10-42C4-94A8-D777C0196FF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ccounting for Kernel-Mode Tim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320" y="1142640"/>
            <a:ext cx="317952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total busy time of processor (equal to elapsed real time - idle 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 Time” = “User Time” + “Privileged Tim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= time spent in kernel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vileged Time” inclu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rupt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PC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kernel-mode time (no separate counter for thi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8"/>
          <a:srcRect l="0" t="0" r="12988" b="0"/>
          <a:stretch/>
        </p:blipFill>
        <p:spPr>
          <a:xfrm>
            <a:off x="3330720" y="990720"/>
            <a:ext cx="5743440" cy="5049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012280" y="5943600"/>
            <a:ext cx="3999600" cy="73188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creen snapshot from:  Programs |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ministrative Tools | Performance Monit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on “+” button, or select Edit | Add to chart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473D-7BA1-4B5E-A4CD-C03E1028D92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CCEEE-3378-4EBF-8233-45052AFD1D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Memory Pools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System-Space Heap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6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provides two system memory poo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” and “Paged Poo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d for systemwide persistent data (visible from any process context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paged pool required for memory accessed from DPC/dispatch IRQL or ab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ge faults at DPC/dispatch IRQL or above cause a system cr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l sizes are a function of memory size &amp; Server vs. Work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overidden in Regist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96520" indent="-2642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KLM\System\CurrentControlSet\Control\Session Manag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\Memory 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are limited by implementation limits (next slid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4D4C-33A3-448C-92B3-9C14226F22B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okaside Lis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36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ead of frequently allocating and freeing pool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lookaside lists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s a driver private list of preallocated blocks of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ines automatically extend the lookaside list from the systemwide p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voids hitting systemwide pool spinlock for every allocation/rel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es CPU/memory cache behavior (the same driver will use the same list items over and o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Initializ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llocateFrom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FreeTo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Delete[N]PagedLookaside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1B43B-5014-476A-9FA2-771BF3702B3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System Memory Limi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1360" y="1693440"/>
            <a:ext cx="8155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y system memory limits raised in XP &amp; Server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2000 limit of 200 GB of mapped file data elimin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viously limited size of files that could be backed 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ximum System Page Table Entries (PTEs)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now describe 1.3 GB of system space (96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2000 limit was 660 MB (220 MB contiguou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number of users on Terminal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028880" indent="-4557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means maximum device driver size is now 960 MB (was 220 M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3E25C-EC8D-4C73-8536-40286B99DD1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ocal Procedure Calls (LPC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C – high-speed message pa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vailable through Windows API –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Window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S in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scenario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PCs on the same machine are implemented as LP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me Windows APIs result in sending messages to Windows subsyst. pro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Logon uses LPC to communicate with local security authentication server process (LSA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reference monitor uses LPC to communicate with LS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 messages &lt; 256 bytes are copied from sender to rece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rger messages are exchanged via shared memory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(kernel) may write directly in client‘s address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95BF7-57C2-4E87-93A4-1726512381C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ort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PC exports port objects to maintain state of communic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nnec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named port, server connection request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, one per active client, used for commun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a particular client thread uses to communicate with a particular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named communication po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unnamed port created for use by two threads in the sam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ical scenari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creates named connection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ent makes connection requ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unnamed ports are created, client gets handle to server port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ver gets handle to clien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FF01-44BC-4204-9153-1E90ECDB070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e of LPC por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5120" y="1981080"/>
            <a:ext cx="147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Client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95480" y="199692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Kernel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914520" y="1996920"/>
            <a:ext cx="155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erver address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5040" y="2938320"/>
            <a:ext cx="90468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Message</a:t>
            </a:r>
            <a:br>
              <a:rPr sz="16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7040" y="260676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onnection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59240" y="31399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6416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4504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25920" y="3139920"/>
            <a:ext cx="228600" cy="1526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28080" y="306396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Client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99200" y="31399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erver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258320" y="3444840"/>
            <a:ext cx="1113840" cy="17989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rver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45800" y="3368520"/>
            <a:ext cx="1043280" cy="179892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Client view</a:t>
            </a:r>
            <a:br>
              <a:rPr sz="1400"/>
            </a:br>
            <a:r>
              <a:rPr b="0" lang="de-DE" sz="1400" spc="-1" strike="noStrike">
                <a:solidFill>
                  <a:srgbClr val="003399"/>
                </a:solidFill>
                <a:latin typeface="Arial"/>
              </a:rPr>
              <a:t>of se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511520" y="4359240"/>
            <a:ext cx="533520" cy="152280"/>
            <a:chOff x="4511520" y="4359240"/>
            <a:chExt cx="533520" cy="152280"/>
          </a:xfrm>
        </p:grpSpPr>
        <p:sp>
          <p:nvSpPr>
            <p:cNvPr id="276" name=""/>
            <p:cNvSpPr/>
            <p:nvPr/>
          </p:nvSpPr>
          <p:spPr>
            <a:xfrm>
              <a:off x="4511520" y="435924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511520" y="451152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996920" y="4587480"/>
            <a:ext cx="5257800" cy="1130040"/>
            <a:chOff x="1996920" y="4587480"/>
            <a:chExt cx="5257800" cy="1130040"/>
          </a:xfrm>
        </p:grpSpPr>
        <p:sp>
          <p:nvSpPr>
            <p:cNvPr id="279" name=""/>
            <p:cNvSpPr/>
            <p:nvPr/>
          </p:nvSpPr>
          <p:spPr>
            <a:xfrm>
              <a:off x="3978360" y="5197320"/>
              <a:ext cx="1676160" cy="5202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hared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cti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1996920" y="4587480"/>
              <a:ext cx="198144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073240" y="4739760"/>
              <a:ext cx="190512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5654520" y="4740120"/>
              <a:ext cx="160020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654520" y="4892760"/>
              <a:ext cx="16002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920600" y="3063600"/>
            <a:ext cx="2459520" cy="1751040"/>
            <a:chOff x="1920600" y="3063600"/>
            <a:chExt cx="2459520" cy="1751040"/>
          </a:xfrm>
        </p:grpSpPr>
        <p:sp>
          <p:nvSpPr>
            <p:cNvPr id="285" name=""/>
            <p:cNvSpPr/>
            <p:nvPr/>
          </p:nvSpPr>
          <p:spPr>
            <a:xfrm>
              <a:off x="299988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lient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920600" y="4206600"/>
              <a:ext cx="9903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987640" y="306360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7640" y="306396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139560" y="3292200"/>
            <a:ext cx="4267800" cy="1522440"/>
            <a:chOff x="3139560" y="3292200"/>
            <a:chExt cx="4267800" cy="1522440"/>
          </a:xfrm>
        </p:grpSpPr>
        <p:sp>
          <p:nvSpPr>
            <p:cNvPr id="290" name=""/>
            <p:cNvSpPr/>
            <p:nvPr/>
          </p:nvSpPr>
          <p:spPr>
            <a:xfrm>
              <a:off x="5133600" y="4081320"/>
              <a:ext cx="1380240" cy="733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Server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communication</a:t>
              </a:r>
              <a:br>
                <a:rPr sz="1600"/>
              </a:br>
              <a:r>
                <a:rPr b="0" lang="de-DE" sz="1400" spc="-1" strike="noStrike">
                  <a:solidFill>
                    <a:srgbClr val="003399"/>
                  </a:solidFill>
                  <a:latin typeface="Arial"/>
                </a:rPr>
                <a:t>por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568920" y="4206960"/>
              <a:ext cx="83844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188040" y="38253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139560" y="3825720"/>
              <a:ext cx="3048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139920" y="32922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39920" y="329256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359240" y="3292560"/>
            <a:ext cx="304812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B4E76-5472-44CA-95B8-37D7CB2176A9}" type="slidenum">
              <a:t>25</a:t>
            </a:fld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s are conditions that result  directly from the execution of the program that is ru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introduced a facility  known as structured exception handling, which allows applications to gain control when exceptions occ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lication can then fix the condition and return to the place the exception occurre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wind the stack (thus terminating execution of the subroutine that raised the  exception), 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are back to the system that the exception isn’t recognized and the system should continue searching for an exception handler that might process the excep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8495E-1495-4DC1-87AE-2D7E814489E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ception Dispatching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d exception handling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Accessible from MS VC++ language: __try, __except, __fin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ffrey Richter, „Advanced Windows“, MS P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e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hnson M.Hart, „Win32 System Programming“, Addison-Wes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138040" y="3352680"/>
            <a:ext cx="77508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rap 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26800" y="3657600"/>
            <a:ext cx="106452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ispatch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00800" y="3352680"/>
            <a:ext cx="152388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first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809880"/>
            <a:ext cx="152424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-based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4267080"/>
            <a:ext cx="15750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Debugger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second chan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47242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Environm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86600" y="5181480"/>
            <a:ext cx="1600200" cy="520200"/>
          </a:xfrm>
          <a:prstGeom prst="rect">
            <a:avLst/>
          </a:prstGeom>
          <a:solidFill>
            <a:srgbClr val="00436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Kernel defaul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hand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43400" y="3809880"/>
            <a:ext cx="3808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2400" y="3505320"/>
            <a:ext cx="1154520" cy="733320"/>
          </a:xfrm>
          <a:prstGeom prst="rect">
            <a:avLst/>
          </a:prstGeom>
          <a:solidFill>
            <a:srgbClr val="0043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(Exception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frame, client</a:t>
            </a:r>
            <a:br>
              <a:rPr sz="1400"/>
            </a:b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thread 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791320" y="3580920"/>
            <a:ext cx="6094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35812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99280" y="32608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9880" y="4572000"/>
            <a:ext cx="5677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Unhandled exceptions are passed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next handl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Exception dispatcher sends debug message 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Debugger via LPC/excepion port &amp; session manager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91320" y="3962520"/>
            <a:ext cx="76176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791320" y="39625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3962520"/>
            <a:ext cx="11430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91320" y="3962520"/>
            <a:ext cx="1295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350532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769080" y="4435560"/>
            <a:ext cx="152280" cy="15228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934320" y="4952880"/>
            <a:ext cx="152280" cy="152640"/>
          </a:xfrm>
          <a:prstGeom prst="ellipse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07320" y="312408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PC to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bugger 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36576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5BA0-5822-4E6E-BCFA-F89E57B3BCF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nal Windows API exception handl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es unhandled excep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 top of stack, declared in StartOfProcess()/StartOfThread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id Win32StartOfProcess(LPTHREAD_START_ROUTINE lpStartAddr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PVOID lpvThreadParm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tr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WORD dwThreadExitCode = lpStartAddr(lpvThreadParm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Thread(dwThreadExitCode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__except(UnhandledExceptionFilter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tExceptionInformation())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itProcess(GetExceptionCod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9BC7-F817-4DBD-8A70-FA38E93710D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 E. Russinovich and David A. Solomon, Microsoft Windows Internals, 4th Edition, Microsoft Press, 2004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(from pp. 12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Worker Threads (from pp. 166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Procedure Calls (LPCs) (from pp. 17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ion Dispatching (from pp. 10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8261-C1C6-4E53-8B84-5953310A9DE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2.2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 Manager &amp; Hand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Procedure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 P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08240" y="5661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81295-0DC6-485E-8485-1A37E47C914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ob – Object Man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handle.c – handle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pool.c, \base\ntos\inc\pool.h – Kernel memory pools (nonpaged, pag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see \base\ntos\mm\allocpag.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lpc – Local Procedure C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ptn.c, trap.asm in \base\ntos\ke\i386, \base\ntos\ke\amd64 – Exception Disp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CDE12-8D35-4A2D-9DAA-24A10737A3F6}" type="slidenum">
              <a:t>30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s and Hand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Windows APIs take arguments that ar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andl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system-defined data structures, or “object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calls CreateXxx, which creates an object and returns a handle to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 then uses the handle value in API calls that operate on tha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ee types of Windows objects (and therefore handle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kernel objects” (events, mutexes, files, processes, thread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 “Object Manager”, and represent data structures in system address sp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private to each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GDI objects” (pens, brushes, font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“User objects” (windows, menus, et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jects are managed by the Windows sub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349"/>
              </a:spcBef>
              <a:spcAft>
                <a:spcPts val="349"/>
              </a:spcAft>
              <a:buSzPct val="161654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 values are valid system-wide / session-w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49F2-1AA1-48D7-AF77-62991B03A30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 and Secur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unique for each 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is in system address space, hence cannot be modified from user 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nce, is trus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 checks are made when handle table entry is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.e. at CreateXxx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table entry indicates the “validated” access rights to the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, Write, Delete, Terminat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Is that take an “already-opened” handle look in the handle table entry before performing the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example: TerminateProcess checks to see if the handle was opened for Terminate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eed to check file ACL, process or thread access token, etc., on every write request---checking is done at file handle creation, i.e. “file open”, 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0D7F-227D-4DB5-BB87-6C26EC363C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800600" y="1676520"/>
            <a:ext cx="1904760" cy="1136520"/>
            <a:chOff x="4800600" y="1676520"/>
            <a:chExt cx="1904760" cy="1136520"/>
          </a:xfrm>
        </p:grpSpPr>
        <p:sp>
          <p:nvSpPr>
            <p:cNvPr id="98" name=""/>
            <p:cNvSpPr/>
            <p:nvPr/>
          </p:nvSpPr>
          <p:spPr>
            <a:xfrm>
              <a:off x="4800600" y="20383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3960" y="16765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Objec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02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11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15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16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040800" y="129528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602160" y="2057400"/>
            <a:ext cx="1116000" cy="1074600"/>
            <a:chOff x="3602160" y="2057400"/>
            <a:chExt cx="1116000" cy="1074600"/>
          </a:xfrm>
        </p:grpSpPr>
        <p:sp>
          <p:nvSpPr>
            <p:cNvPr id="131" name=""/>
            <p:cNvSpPr/>
            <p:nvPr/>
          </p:nvSpPr>
          <p:spPr>
            <a:xfrm>
              <a:off x="3676680" y="2057400"/>
              <a:ext cx="1041480" cy="103968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386240" y="3046320"/>
            <a:ext cx="430056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o a kernel object is an index into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andle table, and hence is invalid in any other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ndle table entry contains the system-space address (8xxxxxxx or above) of the data structure; this address is the same regardless of process con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hough handle table is per-process, it is actually in system address space (hence protect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DF67E-3256-4498-9A2E-FD74600A9E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800600" y="2133720"/>
            <a:ext cx="1904760" cy="1136520"/>
            <a:chOff x="4800600" y="2133720"/>
            <a:chExt cx="1904760" cy="1136520"/>
          </a:xfrm>
        </p:grpSpPr>
        <p:sp>
          <p:nvSpPr>
            <p:cNvPr id="136" name=""/>
            <p:cNvSpPr/>
            <p:nvPr/>
          </p:nvSpPr>
          <p:spPr>
            <a:xfrm>
              <a:off x="4800600" y="2495520"/>
              <a:ext cx="1904760" cy="7747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andleCount = 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ferenceCount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043960" y="2133720"/>
              <a:ext cx="1422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vent Obje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ndles, Pointers, and Reference Coun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23440" y="2166840"/>
            <a:ext cx="1445400" cy="1492200"/>
            <a:chOff x="2323440" y="2166840"/>
            <a:chExt cx="1445400" cy="1492200"/>
          </a:xfrm>
        </p:grpSpPr>
        <p:sp>
          <p:nvSpPr>
            <p:cNvPr id="140" name=""/>
            <p:cNvSpPr/>
            <p:nvPr/>
          </p:nvSpPr>
          <p:spPr>
            <a:xfrm>
              <a:off x="2349360" y="252720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3440" y="2166840"/>
              <a:ext cx="1445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andle T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49360" y="2689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49360" y="2851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9360" y="301320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9360" y="3174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49360" y="3336840"/>
              <a:ext cx="1400400" cy="16056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9360" y="3498840"/>
              <a:ext cx="1400400" cy="16020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6840" y="1467000"/>
            <a:ext cx="4041720" cy="5021280"/>
            <a:chOff x="96840" y="1467000"/>
            <a:chExt cx="4041720" cy="5021280"/>
          </a:xfrm>
        </p:grpSpPr>
        <p:sp>
          <p:nvSpPr>
            <p:cNvPr id="149" name=""/>
            <p:cNvSpPr/>
            <p:nvPr/>
          </p:nvSpPr>
          <p:spPr>
            <a:xfrm>
              <a:off x="96840" y="4135320"/>
              <a:ext cx="4041720" cy="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24160" y="1467000"/>
              <a:ext cx="14400" cy="5021280"/>
            </a:xfrm>
            <a:prstGeom prst="line">
              <a:avLst/>
            </a:prstGeom>
            <a:ln w="507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671120" y="1411200"/>
            <a:ext cx="1177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cess 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71120" y="4262400"/>
            <a:ext cx="2097720" cy="1976400"/>
            <a:chOff x="1671120" y="4262400"/>
            <a:chExt cx="2097720" cy="1976400"/>
          </a:xfrm>
        </p:grpSpPr>
        <p:grpSp>
          <p:nvGrpSpPr>
            <p:cNvPr id="153" name=""/>
            <p:cNvGrpSpPr/>
            <p:nvPr/>
          </p:nvGrpSpPr>
          <p:grpSpPr>
            <a:xfrm>
              <a:off x="2323440" y="4746600"/>
              <a:ext cx="1445400" cy="1492200"/>
              <a:chOff x="2323440" y="4746600"/>
              <a:chExt cx="1445400" cy="1492200"/>
            </a:xfrm>
          </p:grpSpPr>
          <p:sp>
            <p:nvSpPr>
              <p:cNvPr id="154" name=""/>
              <p:cNvSpPr/>
              <p:nvPr/>
            </p:nvSpPr>
            <p:spPr>
              <a:xfrm>
                <a:off x="2349360" y="5106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323440" y="4746600"/>
                <a:ext cx="144540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andle Tabl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49360" y="5268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360" y="543096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49360" y="5592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349360" y="5754600"/>
                <a:ext cx="1400400" cy="16056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349360" y="5916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49360" y="6078600"/>
                <a:ext cx="1400400" cy="16020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71120" y="4262400"/>
              <a:ext cx="1177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cess B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040800" y="1506600"/>
            <a:ext cx="155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Sp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4400" y="1635120"/>
            <a:ext cx="95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19040" y="2062080"/>
            <a:ext cx="679680" cy="163440"/>
          </a:xfrm>
          <a:prstGeom prst="rect">
            <a:avLst/>
          </a:prstGeom>
          <a:gradFill rotWithShape="0">
            <a:gsLst>
              <a:gs pos="0">
                <a:srgbClr val="ccff66"/>
              </a:gs>
              <a:gs pos="100000">
                <a:srgbClr val="b6e45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43040" y="2232000"/>
            <a:ext cx="636480" cy="866880"/>
          </a:xfrm>
          <a:custGeom>
            <a:avLst/>
            <a:gdLst/>
            <a:ahLst/>
            <a:rect l="l" t="t" r="r" b="b"/>
            <a:pathLst>
              <a:path w="401" h="546">
                <a:moveTo>
                  <a:pt x="0" y="0"/>
                </a:moveTo>
                <a:lnTo>
                  <a:pt x="0" y="545"/>
                </a:lnTo>
                <a:lnTo>
                  <a:pt x="400" y="545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01400" y="2517840"/>
            <a:ext cx="649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3602160" y="2576520"/>
            <a:ext cx="1116000" cy="555480"/>
            <a:chOff x="3602160" y="2576520"/>
            <a:chExt cx="1116000" cy="555480"/>
          </a:xfrm>
        </p:grpSpPr>
        <p:sp>
          <p:nvSpPr>
            <p:cNvPr id="169" name=""/>
            <p:cNvSpPr/>
            <p:nvPr/>
          </p:nvSpPr>
          <p:spPr>
            <a:xfrm>
              <a:off x="3676680" y="2576520"/>
              <a:ext cx="1041480" cy="520560"/>
            </a:xfrm>
            <a:custGeom>
              <a:avLst/>
              <a:gdLst/>
              <a:ahLst/>
              <a:rect l="l" t="t" r="r" b="b"/>
              <a:pathLst>
                <a:path w="656" h="328">
                  <a:moveTo>
                    <a:pt x="0" y="327"/>
                  </a:moveTo>
                  <a:lnTo>
                    <a:pt x="216" y="327"/>
                  </a:lnTo>
                  <a:lnTo>
                    <a:pt x="216" y="0"/>
                  </a:lnTo>
                  <a:lnTo>
                    <a:pt x="655" y="1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02160" y="304956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6840" y="2133720"/>
            <a:ext cx="6338520" cy="3900240"/>
            <a:chOff x="366840" y="2133720"/>
            <a:chExt cx="6338520" cy="3900240"/>
          </a:xfrm>
        </p:grpSpPr>
        <p:grpSp>
          <p:nvGrpSpPr>
            <p:cNvPr id="172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73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6840" y="2819520"/>
              <a:ext cx="4357440" cy="3214440"/>
              <a:chOff x="366840" y="2819520"/>
              <a:chExt cx="4357440" cy="3214440"/>
            </a:xfrm>
          </p:grpSpPr>
          <p:sp>
            <p:nvSpPr>
              <p:cNvPr id="176" name=""/>
              <p:cNvSpPr/>
              <p:nvPr/>
            </p:nvSpPr>
            <p:spPr>
              <a:xfrm>
                <a:off x="366840" y="4803840"/>
                <a:ext cx="679320" cy="163440"/>
              </a:xfrm>
              <a:prstGeom prst="rect">
                <a:avLst/>
              </a:prstGeom>
              <a:gradFill rotWithShape="0">
                <a:gsLst>
                  <a:gs pos="0">
                    <a:srgbClr val="ccff66"/>
                  </a:gs>
                  <a:gs pos="100000">
                    <a:srgbClr val="b6e45b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6320" y="4989600"/>
                <a:ext cx="1528920" cy="995400"/>
              </a:xfrm>
              <a:custGeom>
                <a:avLst/>
                <a:gdLst/>
                <a:ahLst/>
                <a:rect l="l" t="t" r="r" b="b"/>
                <a:pathLst>
                  <a:path w="963" h="627">
                    <a:moveTo>
                      <a:pt x="0" y="0"/>
                    </a:moveTo>
                    <a:lnTo>
                      <a:pt x="0" y="626"/>
                    </a:lnTo>
                    <a:lnTo>
                      <a:pt x="962" y="62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608280" y="2819520"/>
                <a:ext cx="1116000" cy="3214440"/>
                <a:chOff x="3608280" y="2819520"/>
                <a:chExt cx="1116000" cy="321444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683160" y="2819520"/>
                  <a:ext cx="1041120" cy="3179520"/>
                </a:xfrm>
                <a:custGeom>
                  <a:avLst/>
                  <a:gdLst/>
                  <a:ahLst/>
                  <a:rect l="l" t="t" r="r" b="b"/>
                  <a:pathLst>
                    <a:path w="656" h="527">
                      <a:moveTo>
                        <a:pt x="0" y="526"/>
                      </a:moveTo>
                      <a:lnTo>
                        <a:pt x="440" y="524"/>
                      </a:lnTo>
                      <a:lnTo>
                        <a:pt x="440" y="0"/>
                      </a:lnTo>
                      <a:lnTo>
                        <a:pt x="655" y="0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608280" y="5951520"/>
                  <a:ext cx="82800" cy="824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1" name=""/>
          <p:cNvGrpSpPr/>
          <p:nvPr/>
        </p:nvGrpSpPr>
        <p:grpSpPr>
          <a:xfrm>
            <a:off x="77400" y="1575000"/>
            <a:ext cx="6627960" cy="3962160"/>
            <a:chOff x="77400" y="1575000"/>
            <a:chExt cx="6627960" cy="3962160"/>
          </a:xfrm>
        </p:grpSpPr>
        <p:sp>
          <p:nvSpPr>
            <p:cNvPr id="182" name=""/>
            <p:cNvSpPr/>
            <p:nvPr/>
          </p:nvSpPr>
          <p:spPr>
            <a:xfrm>
              <a:off x="1281240" y="4795920"/>
              <a:ext cx="679320" cy="163440"/>
            </a:xfrm>
            <a:prstGeom prst="rect">
              <a:avLst/>
            </a:prstGeom>
            <a:gradFill rotWithShape="0">
              <a:gsLst>
                <a:gs pos="0">
                  <a:srgbClr val="ccff66"/>
                </a:gs>
                <a:gs pos="100000">
                  <a:srgbClr val="b6e4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8120" y="5010120"/>
              <a:ext cx="636480" cy="512640"/>
            </a:xfrm>
            <a:custGeom>
              <a:avLst/>
              <a:gdLst/>
              <a:ahLst/>
              <a:rect l="l" t="t" r="r" b="b"/>
              <a:pathLst>
                <a:path w="401" h="323">
                  <a:moveTo>
                    <a:pt x="0" y="0"/>
                  </a:moveTo>
                  <a:lnTo>
                    <a:pt x="0" y="322"/>
                  </a:lnTo>
                  <a:lnTo>
                    <a:pt x="400" y="322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3602160" y="2676600"/>
              <a:ext cx="942840" cy="2860560"/>
              <a:chOff x="3602160" y="2676600"/>
              <a:chExt cx="942840" cy="2860560"/>
            </a:xfrm>
          </p:grpSpPr>
          <p:sp>
            <p:nvSpPr>
              <p:cNvPr id="185" name=""/>
              <p:cNvSpPr/>
              <p:nvPr/>
            </p:nvSpPr>
            <p:spPr>
              <a:xfrm>
                <a:off x="3676680" y="2676600"/>
                <a:ext cx="868320" cy="2825640"/>
              </a:xfrm>
              <a:custGeom>
                <a:avLst/>
                <a:gdLst/>
                <a:ahLst/>
                <a:rect l="l" t="t" r="r" b="b"/>
                <a:pathLst>
                  <a:path w="547" h="1780">
                    <a:moveTo>
                      <a:pt x="0" y="1779"/>
                    </a:moveTo>
                    <a:lnTo>
                      <a:pt x="365" y="1779"/>
                    </a:lnTo>
                    <a:lnTo>
                      <a:pt x="365" y="0"/>
                    </a:lnTo>
                    <a:lnTo>
                      <a:pt x="54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02160" y="5454720"/>
                <a:ext cx="82440" cy="82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90720" y="1575000"/>
              <a:ext cx="2590200" cy="383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13" y="17725"/>
                  </a:moveTo>
                  <a:arcTo wR="10800" hR="10800" stAng="8406937" swAng="4733666"/>
                  <a:lnTo>
                    <a:pt x="10800" y="10800"/>
                  </a:lnTo>
                  <a:close/>
                </a:path>
                <a:path fill="none" w="21600" h="21600">
                  <a:moveTo>
                    <a:pt x="2513" y="17725"/>
                  </a:moveTo>
                  <a:arcTo wR="10800" hR="10800" stAng="8406937" swAng="4733666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400" y="3657600"/>
              <a:ext cx="2013840" cy="335880"/>
            </a:xfrm>
            <a:prstGeom prst="rect">
              <a:avLst/>
            </a:prstGeom>
            <a:solidFill>
              <a:srgbClr val="0043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Console"/>
                </a:rPr>
                <a:t>DuplicateHand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0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6699240" y="2514600"/>
            <a:ext cx="82440" cy="82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800600" y="2133720"/>
            <a:ext cx="3886200" cy="4416120"/>
            <a:chOff x="4800600" y="2133720"/>
            <a:chExt cx="3886200" cy="4416120"/>
          </a:xfrm>
        </p:grpSpPr>
        <p:grpSp>
          <p:nvGrpSpPr>
            <p:cNvPr id="194" name=""/>
            <p:cNvGrpSpPr/>
            <p:nvPr/>
          </p:nvGrpSpPr>
          <p:grpSpPr>
            <a:xfrm>
              <a:off x="4800600" y="2133720"/>
              <a:ext cx="1904760" cy="1136520"/>
              <a:chOff x="4800600" y="2133720"/>
              <a:chExt cx="1904760" cy="1136520"/>
            </a:xfrm>
          </p:grpSpPr>
          <p:sp>
            <p:nvSpPr>
              <p:cNvPr id="195" name=""/>
              <p:cNvSpPr/>
              <p:nvPr/>
            </p:nvSpPr>
            <p:spPr>
              <a:xfrm>
                <a:off x="4800600" y="2495520"/>
                <a:ext cx="1904760" cy="774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HandleCount = 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ReferenceCount = 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658120" y="2133720"/>
                <a:ext cx="18288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5486400" y="3657600"/>
              <a:ext cx="1676520" cy="16002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hre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in a wait st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r the eve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04160" y="3733920"/>
              <a:ext cx="8244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9" name=""/>
            <p:cNvCxnSpPr>
              <a:stCxn id="198" idx="6"/>
              <a:endCxn id="192" idx="6"/>
            </p:cNvCxnSpPr>
            <p:nvPr/>
          </p:nvCxnSpPr>
          <p:spPr>
            <a:xfrm flipH="1" flipV="1">
              <a:off x="6780960" y="2555640"/>
              <a:ext cx="305640" cy="1219680"/>
            </a:xfrm>
            <a:prstGeom prst="bentConnector3">
              <a:avLst>
                <a:gd name="adj1" fmla="val -75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5029200" y="5529240"/>
              <a:ext cx="365760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 anchorCtr="1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e: there is actually another data structure, a “wait block”, “between” the thread and the object it’s waiting f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6450-8A3E-4E55-861F-B09CAD9BC2C6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component for managing system-defined “object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are data structures with optional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” managed here include Windows Kernel objects, but not Windows User or GDI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 manager implements user-mode handles and the process handle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 manager is not used for all Windows data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ally, only those types that need to be shared, named, or exported to user 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ata structures are called “objects” but are not managed by the object manager (e.g. “DPC objects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9A727-0A25-478C-A4AB-C74475335BB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ject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art, a heap manager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cates memory for data structure from system-wide, kernel space heap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ageable or nonpage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few extra 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igns name to data structure (op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lookup by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 can be protected by ACL-based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ides uniform naming, sharing, and protection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mplifies C2 security certification by centralizing all object protection in one p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tains counts of handles and references (stored pointers in kernel space) to each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65920" indent="-25884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ject cannot be freed back to the heap until all handles and references are g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6BD99-5DDA-4FDB-99E9-3B58632F7A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20:50:23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7:53Z</dcterms:modified>
  <cp:revision>33</cp:revision>
  <dc:subject>Windows Operating Systems Internals Course</dc:subject>
  <dc:title>Unit OS2: Windows Core System Mechanisms</dc:title>
</cp:coreProperties>
</file>